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2E10-6C92-4E3D-AE04-509C34692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2680" indent="0">
              <a:spcBef>
                <a:spcPts val="4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N has 15 /8's not counting the 20 /8's for US corporations (non-defense) or the 64 /8's of the legacy /16's.     or ~70 /8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4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has ~ 1 /8 with just students population larger than NA total      India has smaller allocation with population expected to surpass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CAA-9C2F-4DD9-BA5B-17F27104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98D-A48D-4B63-B5BA-888F000B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037-9465-4A01-8187-93A84670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63F-0A0D-4A4C-97DB-949A78C7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54C3D-885A-4FEB-8B61-CE92E3F6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24559-BAFB-462F-B040-613CBBBA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79722-5D61-4105-A849-DD51C2B8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1885B-81F0-44E3-A97F-B758C387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692E8-F4CA-4D65-8692-2226C748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A71D9-9747-45EA-9E70-46ABD1D6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CE9D8-22AB-4DC4-B298-04B56430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671-8226-4594-9CE6-3147A8A2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82555-0BF1-42AB-BFCF-A5498621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C540E-EC02-4768-94C1-2DC47B27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43F48-B384-4D1C-83D7-764FD486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7769E-49B6-43FD-9ACD-FB4BE1BD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55103-9B90-4B2E-BF43-847542D7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F38-0AC6-4AF4-9B18-D6A12754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071-AF03-40C8-A3A0-EF3B9ACF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225-EEC4-40DE-93C0-BBA75F86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8C8-9F72-48F0-BB66-679C08F5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B16-FD59-4033-8BCB-448B84EF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067-910C-45B5-8910-42378510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7CC2-8981-4A55-8D23-BA7F45C2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ne 2003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4D004EDD-C1AB-4D1E-AC12-2839B9299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57200" y="6019920"/>
            <a:ext cx="1289160" cy="684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772400" y="6019920"/>
            <a:ext cx="878040" cy="682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4485-33DF-4D7D-8276-7D13F23BD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66720" y="380880"/>
            <a:ext cx="2157480" cy="1146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010280" y="380880"/>
            <a:ext cx="1471680" cy="1146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IPv6 in North America</a:t>
            </a:r>
            <a:endParaRPr b="0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23960" y="36576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rth American Global IPv6 Summit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e 24-27 2003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ny H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ology Director - IPv6 Forum Technical Directo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Leader - Cisco System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Deployment activiti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re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.S. wireless service providers finding it difficult to create a viable business plan under the limited growth IPv4 allocation poli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are currently investigating IPv6 as a way forward, with projected phases of R&amp;D ('03), Trials ('04-05), Production deployment ('0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ral 802.11 Hot Spots already offer IPv6 connectivity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Deployment concer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grade availability, certification timeframe,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twork Management avail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sioning, billing, management stations, operator training,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urity of filtering &amp; intrusion detection devices vs. IPv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tential new avenues of attack, and transition interac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Pv6 deployment costs &amp; Return on Investment (Ro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ware/hardware upgrades, training,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siness models for new appliances, applications, and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IN is actively allocating IPv6 prefi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loyment activities are quietly under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cessful deployment is driven by ap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orth-American IPv6 Task Force (NAv6TF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milar in charter to the other IPv6 Forum regional task forc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ssion: To help promote and foster IPv6 adoption within target industries through Short &amp; Long Term Objectives and Deliver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ently, NAv6TF sent its recommendations to the U.S. President’s Critical Infrastructure Protection Board regarding the National Strategy to Secure Cyberspac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eeting at U.S. Global IPv6 summit – June 2003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Pv6 Demonstration Collaborative initiativ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Moonv6) www.iol.unh.edu/consortuims/ipv6/IDC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ww.nav6tf.org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ww.ipv6forum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ception is that "IPv6 has not taken hold strongly within North America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Pv4 address space is less of a problem there than the rest of the wor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vate sector requires a business c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ies hint at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 beds and early adopters increa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reless infrastructure emerg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y and Government are looking at the operational advanta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ing allocation of production global addr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pervasiveness of IT is inevitabl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99" name="" descr="Host Count Graph"/>
          <p:cNvPicPr/>
          <p:nvPr/>
        </p:nvPicPr>
        <p:blipFill>
          <a:blip r:embed="rId2"/>
          <a:stretch/>
        </p:blipFill>
        <p:spPr>
          <a:xfrm>
            <a:off x="1346040" y="2057400"/>
            <a:ext cx="6453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IP Address Allocation History</a:t>
            </a:r>
            <a:endParaRPr b="0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0080" indent="0">
              <a:spcBef>
                <a:spcPts val="5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1981  -  IPv4 protocol publishe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280080" indent="0">
              <a:spcBef>
                <a:spcPts val="5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1985  ~ 1/16 of total spac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280080" indent="0">
              <a:spcBef>
                <a:spcPts val="5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1990  ~ 1/8 of total spac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280080" indent="0">
              <a:spcBef>
                <a:spcPts val="5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1995  ~ 1/3 of total spac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280080" indent="0">
              <a:spcBef>
                <a:spcPts val="5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2000  ~ 1/2 of total spac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280080" indent="0">
              <a:spcBef>
                <a:spcPts val="5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2002.5  ~ 2/3 of total spac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280080" indent="0">
              <a:spcBef>
                <a:spcPts val="6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0080" indent="0">
              <a:spcBef>
                <a:spcPts val="3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0080" indent="-280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despite increasingly intense conservation eff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8040">
              <a:lnSpc>
                <a:spcPct val="65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PP / DHCP address sharing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NAT (network address translatio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08040">
              <a:lnSpc>
                <a:spcPct val="65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IDR (classless inter-domain routing)     plus some address reclam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0080" indent="-280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oretical limit of 32-bit space:  ~4 billion devic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actical limit of 32-bit space: ~250 million devices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RFC 319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259160" y="1495440"/>
          <a:ext cx="4438800" cy="282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59160" y="1495440"/>
                    <a:ext cx="443880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514440" y="2084400"/>
          <a:ext cx="8102520" cy="379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2084400"/>
                    <a:ext cx="8102520" cy="37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ahoma"/>
              </a:rPr>
              <a:t>IPv6 Prefix Allocatio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endor statu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networking equipment vendors already ship IPv6 capable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ing system vendors officially support IPv6 in their latest product rele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3 and beyond: call for </a:t>
            </a: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lications must be IPv4/IPv6 version agnos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ccessful deployment is driven by 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Deployment activiti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bone R&amp;D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85 sites registered including academia, government, research labs, vendors, and IS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ned phase out for cease of operations by July 1,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ademia &amp; Research commun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tional and regional infrastructures are gradually moving to dual stacks, &amp; downstream sites are in the planning sta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national partnerships in pro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um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lications and appliances are emerging this y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bstantial availability over next 18 month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Deployment activiti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rly adopters running IPv6 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ding target for IPv6 promotion (NAv6TF) with IPv6 called out for examination in National Strategy to Secure Cybersp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erational networks require validation pro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terpr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nimal deployment beyond vendor development 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ing curve in architecture and management grou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loyment gated by application and O.S. upgrade strate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Deployment activiti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hange poi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tap, 6IIX, NY6IX, PAIX, S-IX(NTT San Jose),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s are largely driven by customer dem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ck of explicit demand??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ial networks are up and run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&amp;W, Hurricane, MCI, Qwest, Sprint, Stealth, Verio,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ear lack of consumer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l, DSL, Cable, FttH,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turn on investment (RoI) justifications sou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rticularly in the current economic enviro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22:46:20Z</dcterms:created>
  <dc:creator>Tony</dc:creator>
  <dc:description/>
  <dc:language>en-US</dc:language>
  <cp:lastModifiedBy>Tony</cp:lastModifiedBy>
  <dcterms:modified xsi:type="dcterms:W3CDTF">2003-05-28T18:14:21Z</dcterms:modified>
  <cp:revision>58</cp:revision>
  <dc:subject/>
  <dc:title>North American Global IPv6 Summit June 24-27 2003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52037899</vt:r8>
  </property>
  <property fmtid="{D5CDD505-2E9C-101B-9397-08002B2CF9AE}" pid="3" name="_AuthorEmail">
    <vt:lpwstr>Jim.Bound@hp.com</vt:lpwstr>
  </property>
  <property fmtid="{D5CDD505-2E9C-101B-9397-08002B2CF9AE}" pid="4" name="_AuthorEmailDisplayName">
    <vt:lpwstr>Bound, Jim</vt:lpwstr>
  </property>
  <property fmtid="{D5CDD505-2E9C-101B-9397-08002B2CF9AE}" pid="5" name="_EmailSubject">
    <vt:lpwstr>Powerpoint slides FW: [nav6tf] NAv6TF Slide Templates</vt:lpwstr>
  </property>
  <property fmtid="{D5CDD505-2E9C-101B-9397-08002B2CF9AE}" pid="6" name="_PreviousAdHocReviewCycleID">
    <vt:r8>634038365</vt:r8>
  </property>
</Properties>
</file>