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pct" ContentType="image/x-pict"/>
  <Override PartName="/ppt/media/image12.png" ContentType="image/png"/>
  <Override PartName="/ppt/media/image5.jpeg" ContentType="image/jpeg"/>
  <Override PartName="/ppt/media/image7.pct" ContentType="image/x-pict"/>
  <Override PartName="/ppt/media/image10.jpeg" ContentType="image/jpeg"/>
  <Override PartName="/ppt/media/image6.jpeg" ContentType="image/jpeg"/>
  <Override PartName="/ppt/media/image13.png" ContentType="image/png"/>
  <Override PartName="/ppt/media/image8.pct" ContentType="image/x-pict"/>
  <Override PartName="/ppt/media/image9.jpeg" ContentType="image/jpe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88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77156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458200" y="6477120"/>
            <a:ext cx="45720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000" spc="-1" strike="noStrike">
                <a:solidFill>
                  <a:srgbClr val="3366cc"/>
                </a:solidFill>
                <a:latin typeface="Arial"/>
              </a:rPr>
              <a:t>- </a:t>
            </a:r>
            <a:fld id="{6F61212E-5E58-47FA-B2B9-40C82B22F7F5}" type="slidenum">
              <a:rPr b="1" i="1" lang="es-ES_tradnl" sz="1000" spc="-1" strike="noStrike">
                <a:solidFill>
                  <a:srgbClr val="3366cc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56720" y="0"/>
            <a:ext cx="1187280" cy="61740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8028000" y="6235560"/>
            <a:ext cx="1116000" cy="622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ct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ipv6forum.com/images/logos/ipv6_logos.zip" TargetMode="External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685440" y="3885840"/>
            <a:ext cx="8458200" cy="2133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 Chown (tjc@ecs.soton.ac.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Southampton, 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European IPv6 Task Force, 6NET and Euro6IX pro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2971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cc"/>
                </a:solidFill>
                <a:latin typeface="Arial"/>
              </a:rPr>
              <a:t>IPv6 in European Research Networks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llocations of SubTL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" name=""/>
          <p:cNvGraphicFramePr/>
          <p:nvPr/>
        </p:nvGraphicFramePr>
        <p:xfrm>
          <a:off x="1455840" y="1981080"/>
          <a:ext cx="6232320" cy="4114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55840" y="1981080"/>
                    <a:ext cx="623232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ual-stack strateg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RENs need an IPv6 transition strate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ed to be able to carry IPv6 on their infrastructure, and offer IPv6 services to end sites (universiti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elp break the “chicken and egg” cyc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eeds to be integrated with the university strate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Can run IPv4 and IPv6 on the same router equipment, and run both protocols over the same links, native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quires vendor implementation to have fast (hardware-based) IPv6 forwarding, and to support the required IPv6 routing protocols (BGP4+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Dual-stack NR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ome NRENs have already migrated to dual-stack on their production networks, for exampl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URFnet (Cisco) – the Netherlan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FUnet (Juniper) - Fin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enater (Cisco) - F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JANET (Cisco) - 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UNINETT (Cisco) - Nor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NRENs will make a dual-stack transition in 200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ed confidence that IPv6 performance is as good as IPv4, and that IPv6 will not adversely affect the IPv4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Examples of successful deployments breed confide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cademic deployment breeds robustness (through vendor feedback) for future commercial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Land Speed Recor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omoted by Internet2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http://www.internet2.edu/lsr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nables demonstration of IPv6 perform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cord recently set on network comprising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T backbone and US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an on IPv4 production Juniper M20, M40, M160 rou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Static IPv6 routes u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imary NREN sites RedIRIS and AR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result was as good as the IPv4 record at the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urthered the case for dual-stack on G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NT in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Bolstered by experiences of Abilene Juniper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LSR record confirme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Pv6 single stream record confirmed at I2 Fall Meeting in L.A. in October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e next record…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00720" y="2133720"/>
            <a:ext cx="4324320" cy="324468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403280" y="4724280"/>
            <a:ext cx="2376720" cy="1782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v6 deployment at the ed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ÉANT and many NRENs have adopted IPv6 native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have high-performance native infra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.g. JANET and GÉANT both widely10Gbit/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pushes native requirement to the 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.e. to regional MANs and universi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ckbone deployment is in parallel to site-specific stud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ploying IPv6 in the enterpris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ll be largely dual-stack in the early ph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IPv6-only devices will appear in due cour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6NET project is studying NREN and site tran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6NET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The            projec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7342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loyed a pan-European IPv6 research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ackbone in place since May 2002 at STM-1 r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Project runs until December 20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1,100 man months between 35 partner organis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ny study areas beyond the underlying network rollout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ransition tools, MIPv6, DNS, QoS, address allocation policies, IPv6 multicast, IPsec, VPNs, multihoming, application porting, VoIP, Globus/GRID toolkit, multimedia tools, network management and monitoring,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sire to interconnect to international networks to further research goals through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ncluding Abile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492360" y="692280"/>
            <a:ext cx="1584360" cy="8841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"/>
          <p:cNvGraphicFramePr/>
          <p:nvPr/>
        </p:nvGraphicFramePr>
        <p:xfrm>
          <a:off x="539640" y="0"/>
          <a:ext cx="7479000" cy="6686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0"/>
                    <a:ext cx="7479000" cy="668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2" name="" descr=""/>
          <p:cNvPicPr/>
          <p:nvPr/>
        </p:nvPicPr>
        <p:blipFill>
          <a:blip r:embed="rId3"/>
          <a:stretch/>
        </p:blipFill>
        <p:spPr>
          <a:xfrm>
            <a:off x="7093080" y="404640"/>
            <a:ext cx="1728720" cy="9637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17544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7524720" y="3429000"/>
            <a:ext cx="1368360" cy="762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quick tour of IPv6 in academi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 rationale for academ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 in research networks: GÉANT and 6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twork 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bility and performance for day-to-day u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Pv6 network monito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ples of IPv6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cast, mobility, roaming, community networks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lications, old and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orting existing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veloping new appli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6NET stag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Held in Brussels early in 2002, as part of Cisco Professional Services deploy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826920" y="3789360"/>
            <a:ext cx="3522960" cy="26416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4643280" y="2060640"/>
            <a:ext cx="3888000" cy="29160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6NET resul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6NET has 100 deliverables due during 2002-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97 of those are publ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6net.org/publication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xisting reports inclu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IPv6 implementations evalu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twork routing models (IS-IS, IPv6-onl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HCPv6 implementations evaluation (due soon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Pv6 transition technologies and cookboo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Pv6 application por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Network management tools (e.g. RIPE NCC TTM serv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IPv6 deployment “missing pieces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v6 Network Monitor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itoring on 6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NET weather map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netmon.grnet.gr/6net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lies on IPv6-only property for SNMP gather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s average flows, with MRTG pl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ing on IPv6 Netflow monitor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IPE NCC Test Traffic 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ripe.net/ttm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70 servers deployed, 10 now IPv6-enabl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 new server shipped have IPv6 sup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hows delays, packet loss between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historical traceroute records between serv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s of IPv6 ser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v6 multicast - m6b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vehicle to gain IPv6 Multicast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http://www.m6bone.net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rgely using tunnels (like the mbone for IPv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ver 30 participants, from Europe and beyo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s led to IETF Internet Draf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cast IPv4-IPv6 gateway (Stig Venaas, UNINET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bedded multicast RP address (Pekka Savola, FUNE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ing now to m6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ve IPv6 multicast on the 6NET infra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imited to certain Cisco router line car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8600" y="457200"/>
            <a:ext cx="8686800" cy="574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7048440" cy="6134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v6 Multicast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inclu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c and Rat (conferencing tool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SABEL (conferencing tool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reeamp (MP3 stream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IM (MPEG streaming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tcp and iperf (performance measuremen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esting challenge is to investigate implications of Source-Specific Multicast (SSM) for IPv6 on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ETF mboned Working Group believes PIM-SSM is the most architecturally clean way for IPv6 Multicast to move forwar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72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 networks do not need a business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y provide and support research, on top of a production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a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r students (particularly CompSci), projects, courseworks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niversities should teach leading edge techn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t IPv6 where the brains are to breed innov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s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ational and international projects and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bracing related areas, e.g. Grid computing, Optical network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’s the Right Thing to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ember: The killer app for IPv4 took time to c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nitoring multicas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m6bone runs an IPv6 multicast beac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monitor loss, delay and ji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apted from the NLANR beac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beaconserver.m6bone.pl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e can also check the PIM-SM RP stat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routes (unicast and multica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cast groups, PIM-SM stat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LAN and IPv6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less roa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TERENA TF-Mobility Working Group is studying methods to allow WLAN roaming across European 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terena.nl/tech/task-forces/tf-mobility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 space includ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02.1x (+ RADI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tricted VPN access lis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b redirection to an authentication page (+ RADIU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cluding a study of implications for IPv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he above methods work (or do not!) with IPv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munity networ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loying WLAN access points in the commun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a campus neighbourhood this offers outreac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aff and students deploy access points with Linux rou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lows OSPF (for example) to be run on the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ing mesh network effectiveness over multi-ho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ndwidth drops off over multi-hop WLAN topolog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udying how to address and route the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get an IPv6 address prefix to use on the mesh net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w to select the external off-network link (if required)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 the nearest DSL site?   Or pay for a fat(ter) ISP pip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thampton Open Wireless Netwo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www.sown.org.u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rting existing co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Pv6 API available in C and Jav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va Development Kit 1.4.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Linux and Sola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est practice in porting being establishe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ing code IP (AF)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NG: http://long.ccaba.upc.es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AME: http://www.kame.net/newsletter/19980604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NET is working on many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ist is available onli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cludes descriptions and IPv6 notes for each appl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6net.laares.info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so a fuller database of applications and patch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be searched by name or keyword, .e.g.”perl”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ttp://6net.iif.hu/ipv6_apps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ey focus is to ensure that porting effort feeds back into the main development eff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se we keep repeating the patching effort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6NET examp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P-based Voice over IP, open source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e http://www.vovida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ed on the 6WINIT project - http://www.6winit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ested interop with other IPv6 SIP applications and gatew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us Toolk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orked on version 2, now working on version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eavily Java based, using OGS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going effort within 6NET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rst IPv6 meeting at concurrent Global Grid Fo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osing com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 is natively deploying in European research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most exclusively through dual-stack deploy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ications of IPv6 becoming better understo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dating services such as IPv6 multica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twork management and monitoring, running an IPv6 NO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IPv6 features - e.g. IPv6 Privacy Exten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cus now is on appl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enerating traffic, stimulating adop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hancing existing areas with IPv6, e.g. Grid comput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abling staff and students to innovate in “6Wifi” environ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NET has 18 months remaining to document best pract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 “cookbooks” being published at http://www.6net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Pv6 in universit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Pv6 has a role to play in enhancing edu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have heard many such ideas already this w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re are many users at ho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see a huge growth in DSL use by staff and stud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enables always-on, reasonable bandwidth to the us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should utilise this, e.g. for teleworking, collabo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campus information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WLAN handhelds enable messaging, p2p, voice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e will need MIPv6 to support campus-wide WLAN roam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n campus infra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arious embedded systems, displays, sensors,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ÉANT, 6NE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NRE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ANT and 6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ll the European National Research and Education Networks (NRENs) are interconnected by 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T, offering a </a:t>
            </a:r>
            <a:r>
              <a:rPr b="1" lang="en-GB" sz="2000" spc="-1" strike="noStrike">
                <a:solidFill>
                  <a:srgbClr val="000000"/>
                </a:solidFill>
                <a:latin typeface="Times New Roman"/>
              </a:rPr>
              <a:t>production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IPv4 network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any NREN plans are in sync with those of 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REN networks use a variety of hardware and technolog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T includes over 25 NRE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t will include more as the EU spreads to the e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echnical IPv6 discussion in TERENA TF-NGN W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terena.nl/tech/task-forces/tf-ngn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15 of the NRENs are members of the 6NET proj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6NET is a pan-European </a:t>
            </a:r>
            <a:r>
              <a:rPr b="1" lang="en-GB" sz="1800" spc="-1" strike="noStrike">
                <a:solidFill>
                  <a:srgbClr val="000000"/>
                </a:solidFill>
                <a:latin typeface="Times New Roman"/>
              </a:rPr>
              <a:t>experimental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  research network proje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as deployed a native IPv6-only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Funded in part by the European Commiss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ÉANT tran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ÉANT uses Juniper ro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bilene (Internet2) runs Juniper rou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ilene migrated to dual stack in Autumn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ÉANT road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ual-stack was enabled in the backbone in Q1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ing the NRENs from Q2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ablished native IPv6 connectivity to Abilene via dual-stack transatlantic links in May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ull production service end of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2860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 service requires features such as full IPv6 management suppor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NREN transi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RENs wish to offer IPv6 services national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Harmonised with IPv6 in the G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É</a:t>
            </a: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NT core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y need IPv6 address alloc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st NRENs have a production /32 prefix from the RIPE NC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he NREN networks need to transport IPv6 – options includ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Dual-stack network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Pv6 in IPv4 tunn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Parallel IPv6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Pv6 over MPLS (where MPLS already exis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IPv6 with ATM (but ATM is now very rare in NREN network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cbcbcb"/>
            </a:outerShdw>
          </a:effectLst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IPv6 address 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Europe, IPv6 address space is allocated by the RIPE N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Most NRENs have obtained a production IPv6 network address prefix (SubTL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e prefix is a /32, e.g. JANET (UK) is 2001:0630::/3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ach university site then receives a /48 prefi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Thus an NREN can address 2^16 universit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site /48 prefix allows 2^16 site subnets to be allocated, with up to 2^64 (!) hosts per subnet (compared typically to 256 hosts now) - this allows administrators to easily resize subnets.   It also deters port scanning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ddress allocation policies will be import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A /48 per university seems a lot now, but in 5-10 years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8-12T19:53:44Z</dcterms:created>
  <dc:creator>Jordi Palet Martínez</dc:creator>
  <dc:description/>
  <dc:language>en-US</dc:language>
  <cp:lastModifiedBy>Tim Chown</cp:lastModifiedBy>
  <cp:lastPrinted>2000-04-21T12:19:43Z</cp:lastPrinted>
  <dcterms:modified xsi:type="dcterms:W3CDTF">2003-06-27T16:48:37Z</dcterms:modified>
  <cp:revision>870</cp:revision>
  <dc:subject>IPv6 and the European Strategy</dc:subject>
  <dc:title>Barcelona 2003 RIPE meeting</dc:title>
</cp:coreProperties>
</file>