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ct" ContentType="image/x-pict"/>
  <Override PartName="/ppt/media/image12.png" ContentType="image/png"/>
  <Override PartName="/ppt/media/image5.jpeg" ContentType="image/jpeg"/>
  <Override PartName="/ppt/media/image7.pct" ContentType="image/x-pict"/>
  <Override PartName="/ppt/media/image10.jpeg" ContentType="image/jpeg"/>
  <Override PartName="/ppt/media/image6.jpeg" ContentType="image/jpeg"/>
  <Override PartName="/ppt/media/image13.png" ContentType="image/png"/>
  <Override PartName="/ppt/media/image8.pct" ContentType="image/x-pict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77120"/>
            <a:ext cx="457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3366cc"/>
                </a:solidFill>
                <a:latin typeface="Arial"/>
              </a:rPr>
              <a:t>- </a:t>
            </a:r>
            <a:fld id="{D7EF0C13-58F8-4563-891F-8B4826C3075F}" type="slidenum">
              <a:rPr b="1" i="1" lang="es-ES_tradnl" sz="1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6174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028000" y="6235560"/>
            <a:ext cx="11160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pv6forum.com/images/logos/ipv6_logos.zip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440" y="38858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Chown (tjc@ecs.soton.ac.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Southampton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uropean IPv6 Task Force, 6NET and Euro6IX pro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2971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IPv6 in European Research Network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ocations of SubT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55840" y="1981080"/>
          <a:ext cx="62323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1981080"/>
                    <a:ext cx="6232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ual-stack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RENs need an IPv6 transition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ed to be able to carry IPv6 on their infrastructure, and offer IPv6 services to end sites (universit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lp break the “chicken and egg”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eds to be integrated with the university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n run IPv4 and IPv6 on the same router equipment, and run both protocols over the same links, 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res vendor implementation to have fast (hardware-based) IPv6 forwarding, and to support the required IPv6 routing protocols (BGP4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ual-stack NR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NRENs have already migrated to dual-stack on their production networks,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RFnet (Cisco) – the 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et (Juniper) - Fin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nater (Cisco) -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NET (Cisco) -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NETT (Cisco) - No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RENs will make a dual-stack transition in 200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ed confidence that IPv6 performance is as good as IPv4, and that IPv6 will not adversely affect the IPv4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s of successful deployments breed conf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ademic deployment breeds robustness (through vendor feedback) for future commercial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Land Speed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moted by Internet2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internet2.edu/ls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ables demonstration of IPv6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rd recently set on network comprising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 backbone and U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n on IPv4 production Juniper M20, M40, M160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ic IPv6 rout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mary NREN sites RedIRIS and AR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sult was as good as the IPv4 record at th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rthered the case for dual-stack on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lstered by experiences of Abilene Juniper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SR record confirm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v6 single stream record confirmed at I2 Fall Meeting in L.A. in Octo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record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324320" cy="32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03280" y="4724280"/>
            <a:ext cx="2376720" cy="178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v6 deployment at the 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ÉANT and many NRENs have adopted IPv6 na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high-performance native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JANET and GÉANT both widely10G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ushes native requirement to th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 to regional MANs and 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bone deployment is in parallel to site-specific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ing IPv6 in the enterpris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largely dual-stack in the early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IPv6-only devices will appear in due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6NET project is studying NREN and site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6NET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          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34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loyed a pan-European IPv6 research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ckbone in place since May 2002 at STM-1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ject runs until Dec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,100 man months between 35 partner organis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y study areas beyond the underlying network roll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nsition tools, MIPv6, DNS, QoS, address allocation policies, IPv6 multicast, IPsec, VPNs, multihoming, application porting, VoIP, Globus/GRID toolkit, multimedia tools, network management and monitoring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ire to interconnect to international networks to further research goals through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luding Abil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360" y="692280"/>
            <a:ext cx="1584360" cy="88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39640" y="0"/>
          <a:ext cx="74790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74790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093080" y="404640"/>
            <a:ext cx="1728720" cy="96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7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24720" y="3429000"/>
            <a:ext cx="136836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quick tour of IPv6 in acad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rationale for acad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in research networks: GÉANT and 6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and performance for day-to-day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v6 network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IPv6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cast, mobility, roaming, community networks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, old and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ing exist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ing new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6NET st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d in Brussels early in 2002, as part of Cisco Professional Services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3522960" cy="2641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3888000" cy="29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6NE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NET has 100 deliverables due during 2002-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7 of those ar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6net.org/publication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isting reports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Pv6 implementations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 routing models (IS-IS, IPv6-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HCPv6 implementations evaluation (due so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Pv6 transition technologies and cook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v6 application 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 management tools (e.g. RIPE NCC TTM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Pv6 deployment “missing piec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v6 Network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ing on 6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NET weather 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netmon.grnet.gr/6net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s on IPv6-only property for SNMP gath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average flows, with MRTG p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on IPv6 Netflow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 NCC Test Traffic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ripe.net/ttm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 servers deployed, 10 now IPv6-en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new server shipped have IPv6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delays, packet loss between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historical traceroute records between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IPv6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v6 multicast - m6b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hicle to gain IPv6 Multicast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http://www.m6bon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ly using tunnels (like the mbone for IPv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30 participants, from Europe and bey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led to IETF Internet Dra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cast IPv4-IPv6 gateway (Stig Venaas, UNINE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bedded multicast RP address (Pekka Savola, FU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ing now to m6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IPv6 multicast on the 6NET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to certain Cisco router line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574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048440" cy="613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v6 Multicast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 and Rat (conferencing too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ABEL (conferencing to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amp (MP3 stream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 (MPEG stream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cp and iperf (performance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ing challenge is to investigate implications of Source-Specific Multicast (SSM) for IPv6 on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ETF mboned Working Group believes PIM-SSM is the most architecturally clean way for IPv6 Multicast to move forw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tworks do not need a business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provide and support research, on top of a productio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tudents (particularly CompSci), projects, coursework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should teach leading edge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Pv6 where the brains are to breed innov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and international projects an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bracing related areas, e.g. Grid computing, Optical 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he Right Thing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: The killer app for IPv4 took time to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ing multi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6bone runs an IPv6 multicast bea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onitor loss, delay and j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ed from the NLANR bea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beaconserver.m6bone.p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also check the PIM-SM RP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routes (unicast and 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groups, PIM-SM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 and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ro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RENA TF-Mobility Working Group is studying methods to allow WLAN roaming across European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terena.nl/tech/task-forces/tf-mobility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space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x (+ RADI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ricted VPN access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redirection to an authentication page (+ RADI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a study of implications for 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he above methods work (or do not!) with IP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 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ing WLAN access points in the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campus neighbourhood this offers out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 and students deploy access points with Linux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OSPF (for example) to be run on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mesh network effectiveness over multi-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 drops off over multi-hop WLAN top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how to address and route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get an IPv6 address prefix to use on the mesh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select the external off-network link (if required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nearest DSL site?   Or pay for a fat(ter) ISP pi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ampton Open Wireles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sown.org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ing existing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v6 API available in C and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Development Kit 1.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inux and 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practice in porting being establish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code IP (AF)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: http://long.ccaba.upc.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ME: http://www.kame.net/newsletter/1998060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NET is working on many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is available on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descriptions and IPv6 notes for each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6net.laares.inf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a fuller database of applications and pat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searched by name or keyword, .e.g.”perl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6net.iif.hu/ipv6_app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focus is to ensure that porting effort feeds back into the main development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we keep repeating the patching effor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6NET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P-based Voice over IP, open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http://www.vovida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 the 6WINIT project - http://www.6winit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interop with other IPv6 SIP applications and gate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us Tool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ed on version 2, now working on vers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vily Java based, using OG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oing effort within 6NET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IPv6 meeting at concurrent Global Grid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ing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is natively deploying in European research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exclusively through dual-stack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of IPv6 becoming better 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ing services such as IPv6 multi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management and monitoring, running an IPv6 N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IPv6 features - e.g. IPv6 Privacy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now is on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ng traffic, stimulating ad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ing existing areas with IPv6, e.g. Grid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ing staff and students to innovate in “6Wifi” 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NET has 18 months remaining to document b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“cookbooks” being published at http://www.6net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v6 in univer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has a role to play in enhancing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heard many such ideas already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any users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ee a huge growth in DSL use by staff and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nables always-on, reasonable bandwidth to th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hould utilise this, e.g. for teleworking,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campus inform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WLAN handhelds enable messaging, p2p, voic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need MIPv6 to support campus-wide WLAN ro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campus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embedded systems, displays, sensors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ÉANT, 6N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NR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 and 6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European National Research and Education Networks (NRENs) are interconnected by 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T, offering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Pv4 network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y NREN plans are in sync with those of 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REN networks use a variety of hardware and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T includes over 25 NR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t will include more as the EU spreads to the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chnical IPv6 discussion in TERENA TF-NGN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erena.nl/tech/task-forces/tf-ng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5 of the NRENs are members of the 6NET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NET is a pan-European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periment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research network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s deployed a native IPv6-only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unded in part by the European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ÉANT tran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ÉANT uses Juniper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ene (Internet2) runs Juniper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ene migrated to dual stack in Autumn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ÉANT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-stack was enabled in the backbone in Q1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ng the NRENs from Q2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native IPv6 connectivity to Abilene via dual-stack transatlantic links in Ma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production service end of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rvice requires features such as full IPv6 management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REN tran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RENs wish to offer IPv6 services natio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rmonised with IPv6 in the 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 cor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y need IPv6 address al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st NRENs have a production /32 prefix from the RIPE N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REN networks need to transport IPv6 – option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ual-stack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Pv6 in IPv4 tu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rallel IPv6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Pv6 over MPLS (where MPLS already exi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Pv6 with ATM (but ATM is now very rare in NREN networ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ddress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Europe, IPv6 address space is allocated by the RIPE N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st NRENs have obtained a production IPv6 network address prefix (SubT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prefix is a /32, e.g. JANET (UK) is 2001:0630::/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ach university site then receives a /48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us an NREN can address 2^16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site /48 prefix allows 2^16 site subnets to be allocated, with up to 2^64 (!) hosts per subnet (compared typically to 256 hosts now) - this allows administrators to easily resize subnets.   It also deters port scan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ress allocation policies will be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/48 per university seems a lot now, but in 5-1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2T19:53:44Z</dcterms:created>
  <dc:creator>Jordi Palet Martínez</dc:creator>
  <dc:description/>
  <dc:language>en-US</dc:language>
  <cp:lastModifiedBy>Tim Chown</cp:lastModifiedBy>
  <cp:lastPrinted>2000-04-21T12:19:43Z</cp:lastPrinted>
  <dcterms:modified xsi:type="dcterms:W3CDTF">2003-06-27T16:48:37Z</dcterms:modified>
  <cp:revision>870</cp:revision>
  <dc:subject>IPv6 and the European Strategy</dc:subject>
  <dc:title>Barcelona 2003 RIPE meeting</dc:title>
</cp:coreProperties>
</file>